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87C7-0333-43B3-8D6A-6E413F8F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8EB-B546-48CA-9DB4-7C9FCEAB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1C5-5529-41C9-93B1-2A22FE8C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E70-47E4-49A1-AB9E-2A7D885D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495-227D-47D0-A7E0-184B8903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FA2-51DE-4517-8741-96AE346B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E8E-9131-4400-8D2A-EB070DD6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699-50D7-4EA3-87D3-B89A0FD8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97A-34EF-4474-B15D-F05A32E7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EC2-46FB-4B31-BA08-B9304A2D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324-7532-49E4-93A3-AA6B2AF0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136-E260-46C7-9F63-A1C9EC78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1424-F383-4F3E-9C36-B9E740C45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549360"/>
            <a:ext cx="8891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280" y="549360"/>
            <a:ext cx="8891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280" y="549360"/>
            <a:ext cx="8891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9:18:52Z</dcterms:created>
  <dc:creator>SUHAS</dc:creator>
  <dc:description/>
  <dc:language>en-US</dc:language>
  <cp:lastModifiedBy>SUHAS</cp:lastModifiedBy>
  <dcterms:modified xsi:type="dcterms:W3CDTF">2009-09-28T19:19:11Z</dcterms:modified>
  <cp:revision>1</cp:revision>
  <dc:subject/>
  <dc:title>Slide 1</dc:title>
</cp:coreProperties>
</file>